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6F3-DEAC-4319-83FA-A9C10FB9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ECA-C34C-4714-B522-4F119F3E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1DF-005B-457E-B295-CDD4D962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B4E-A779-4944-8F43-D86EA79D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62B4-B8DD-4EC1-BE4A-2238A203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FFD1-6173-4EF6-BBD4-5F96FFC8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7ADD-B20F-479F-9A88-13BF1812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5F01-808C-49EA-A45B-7527D9D4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AD96-DB08-42FB-9862-9ABDFD9C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E0A-3E5E-49E2-AA5C-2B8A2705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9A10-855C-407E-A0C8-3A5575E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AE9-DADD-47D2-9E19-DB36450E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9F9D-8971-4A48-BE0A-C2B5CC03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D6BE-420B-4408-9BB0-C8D51574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1549-0A32-42BD-A855-E2ECE082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B85C-EB86-4BCF-ACC0-57E653B8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33DB-2619-4AE6-9869-CBBA6B16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31632-329A-4E0E-9A7E-62CF9A1E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A6851-61DE-4E58-A67A-BD99619F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ED784-AFBF-47F1-A94D-AA0A1658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54E15-E5BA-4639-9F1B-023A103C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E5A84-C170-485F-B374-E1B7586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91C-3B55-4BB0-A2EB-9DBAC03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5AEB8-8AAE-4AD5-9786-B9F04BF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FB048-6B30-42BA-8FA6-7FA04A8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3646F-3566-4DB1-9E51-EFF78A35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C40E1-EAC1-4A2C-AD2E-57DBE0E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20A23-9294-4866-9333-02455514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AE299-3A0F-41B2-83C4-51911F59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247C6-D619-42E7-83F9-96227185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36D4-0BFD-4F8C-80AF-F835527E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04C3-1A22-4395-A15E-5D14E6D1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5B49-6BAD-49E1-AF4D-E9BEF141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4E5-3616-4BB3-A13B-EB7DA2D5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0A43-2A2C-4B15-9E06-611B4A26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ADE43-B142-4973-8935-7727D9A9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7CAED-303E-4E86-AD88-CCAA9720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6914-B31D-42E6-BB35-20A708C2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82DF-8C0B-4B97-A7F6-7DEB7F01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4132F-1787-4783-AEFD-2E9CED9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66EF-3C77-4AB1-B1A7-D55CF642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32C3-2E8F-475F-9C5B-B2B4E036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1497-6C06-4F1D-A315-14B63F1D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E14-3769-4A16-B7E5-B0594EDC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429-0588-4ABE-9FBC-6778C7C6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090-B002-491D-A597-31AB6E6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AAE-71A7-42C0-BC2C-3AF01FF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A23-3279-4E63-A6F3-329BA94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EE5-3C03-4C9B-8D7B-42EF17B83E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f293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F31-3D22-4557-9DBB-DB6CB7E6D3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5E8-4F74-46C9-B23D-BE19E9ABB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25D3-C48C-4797-A295-966F74C7D3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04 Comptine d'un autre été.mp3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ponia – </a:t>
            </a:r>
            <a:r>
              <a:rPr b="0" lang="ro-RO" sz="4400" spc="-1" strike="noStrike">
                <a:solidFill>
                  <a:srgbClr val="ffffff"/>
                </a:solidFill>
                <a:latin typeface="Century Gothic"/>
              </a:rPr>
              <a:t>Ţ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ra </a:t>
            </a:r>
            <a:r>
              <a:rPr b="0" lang="ro-RO" sz="4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arelui R</a:t>
            </a:r>
            <a:r>
              <a:rPr b="0" lang="ro-RO" sz="4400" spc="-1" strike="noStrike">
                <a:solidFill>
                  <a:srgbClr val="ffffff"/>
                </a:solidFill>
                <a:latin typeface="Century Gothic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are</a:t>
            </a:r>
            <a:endParaRPr b="0" lang="en-US" sz="44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23232"/>
                </a:solidFill>
                <a:latin typeface="Century Gothic"/>
              </a:rPr>
              <a:t>sau ce înseamnă perseverenţ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02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Kanako+Murakami+Japan+Figure+Skating+Championships+42kE2UWrA9nl.jpg"/>
          <p:cNvPicPr/>
          <p:nvPr/>
        </p:nvPicPr>
        <p:blipFill>
          <a:blip r:embed="rId1"/>
          <a:stretch/>
        </p:blipFill>
        <p:spPr>
          <a:xfrm>
            <a:off x="5427720" y="692280"/>
            <a:ext cx="3290760" cy="44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Kanako Murakam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11280" y="69228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but la competia seniorilor -  Locul 8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5" name="Picture 11" descr="2011+World+Figure+Skating+Championships+Day+RUSe13NIULcl.jpg"/>
          <p:cNvPicPr/>
          <p:nvPr/>
        </p:nvPicPr>
        <p:blipFill>
          <a:blip r:embed="rId2"/>
          <a:stretch/>
        </p:blipFill>
        <p:spPr>
          <a:xfrm>
            <a:off x="1116000" y="2146320"/>
            <a:ext cx="3384720" cy="4711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Shizuka Arakaw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684360" y="6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ur la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Jocurile Olimpi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orino, 2006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8" name="Picture 4" descr="Shizuka+Arakawa+Stars+Ice+2010+4N-FHm6HQv0l.jpg"/>
          <p:cNvPicPr/>
          <p:nvPr/>
        </p:nvPicPr>
        <p:blipFill>
          <a:blip r:embed="rId1"/>
          <a:stretch/>
        </p:blipFill>
        <p:spPr>
          <a:xfrm>
            <a:off x="250920" y="2997360"/>
            <a:ext cx="4897440" cy="35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9" name="Picture 6" descr="Festa+On+Ice+2009+3kleH332Yy5l.jpg"/>
          <p:cNvPicPr/>
          <p:nvPr/>
        </p:nvPicPr>
        <p:blipFill>
          <a:blip r:embed="rId2"/>
          <a:stretch/>
        </p:blipFill>
        <p:spPr>
          <a:xfrm>
            <a:off x="5364000" y="857160"/>
            <a:ext cx="3637080" cy="577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akiko suzuki.jpg"/>
          <p:cNvPicPr/>
          <p:nvPr/>
        </p:nvPicPr>
        <p:blipFill>
          <a:blip r:embed="rId1"/>
          <a:stretch/>
        </p:blipFill>
        <p:spPr>
          <a:xfrm>
            <a:off x="3863880" y="765000"/>
            <a:ext cx="4308480" cy="609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Akiko Suzuk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468360" y="4762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celor 4 Continen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orea de Sud, 2010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3" name="Picture 6" descr="Akiko+Suzuki+ISU+Grand+Prix+Figure+Skating+_68ajQU9-2sl.jpg"/>
          <p:cNvPicPr/>
          <p:nvPr/>
        </p:nvPicPr>
        <p:blipFill>
          <a:blip r:embed="rId2"/>
          <a:stretch/>
        </p:blipFill>
        <p:spPr>
          <a:xfrm>
            <a:off x="539640" y="2317680"/>
            <a:ext cx="2886120" cy="411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8" descr="Japan+Figure+Skating+Championship+Day+2+bSTJFTtOpRtl.jpg"/>
          <p:cNvPicPr/>
          <p:nvPr/>
        </p:nvPicPr>
        <p:blipFill>
          <a:blip r:embed="rId1"/>
          <a:stretch/>
        </p:blipFill>
        <p:spPr>
          <a:xfrm>
            <a:off x="108000" y="2997360"/>
            <a:ext cx="2558880" cy="37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Japan+Figure+Skating+Championship+Day+2+LRT4Kj_e-81l.jpg"/>
          <p:cNvPicPr/>
          <p:nvPr/>
        </p:nvPicPr>
        <p:blipFill>
          <a:blip r:embed="rId2"/>
          <a:stretch/>
        </p:blipFill>
        <p:spPr>
          <a:xfrm>
            <a:off x="4930920" y="765000"/>
            <a:ext cx="4213080" cy="56883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Yukari Nakano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900000" y="5493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celor 4 Continen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A, 2006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8" name="Picture 4" descr="2008+Skate+America+Day+3+hlcRmg8EiJ8l.jpg"/>
          <p:cNvPicPr/>
          <p:nvPr/>
        </p:nvPicPr>
        <p:blipFill>
          <a:blip r:embed="rId3"/>
          <a:stretch/>
        </p:blipFill>
        <p:spPr>
          <a:xfrm>
            <a:off x="2843280" y="2060640"/>
            <a:ext cx="1598400" cy="237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Fumie+Suguri+Trophee+Eric+Bompard+ISU+Grand+SK1lTXhkGAQl.jpg"/>
          <p:cNvPicPr/>
          <p:nvPr/>
        </p:nvPicPr>
        <p:blipFill>
          <a:blip r:embed="rId1"/>
          <a:stretch/>
        </p:blipFill>
        <p:spPr>
          <a:xfrm>
            <a:off x="4643280" y="677880"/>
            <a:ext cx="4251600" cy="618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Fumie Sugur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468360" y="620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Calgary, 2006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2" name="Picture 5" descr="Fumie+Suguri+Trophee+Eric+Bompard+ISU+Grand+Csqx0auzhbPl.jpg"/>
          <p:cNvPicPr/>
          <p:nvPr/>
        </p:nvPicPr>
        <p:blipFill>
          <a:blip r:embed="rId2"/>
          <a:stretch/>
        </p:blipFill>
        <p:spPr>
          <a:xfrm>
            <a:off x="250920" y="2924280"/>
            <a:ext cx="41958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entury Gothic"/>
              </a:rPr>
              <a:t>Cathy si Chris Reed</a:t>
            </a:r>
            <a:endParaRPr b="0" lang="en-US" sz="36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74" name="Picture 3" descr="2011+World+Figure+Skating+Championships+Day+jY6v5xlJAWel.jpg"/>
          <p:cNvPicPr/>
          <p:nvPr/>
        </p:nvPicPr>
        <p:blipFill>
          <a:blip r:embed="rId1"/>
          <a:stretch/>
        </p:blipFill>
        <p:spPr>
          <a:xfrm>
            <a:off x="539640" y="2205000"/>
            <a:ext cx="4392720" cy="405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5" name="Picture 6" descr="Cathy+Reed+Japan+Figure+Skating+Championships+T4gWfhHL2DYl.jpg"/>
          <p:cNvPicPr/>
          <p:nvPr/>
        </p:nvPicPr>
        <p:blipFill>
          <a:blip r:embed="rId2"/>
          <a:stretch/>
        </p:blipFill>
        <p:spPr>
          <a:xfrm>
            <a:off x="5219640" y="1481040"/>
            <a:ext cx="3600360" cy="484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6" name="TextBox 8"/>
          <p:cNvSpPr/>
          <p:nvPr/>
        </p:nvSpPr>
        <p:spPr>
          <a:xfrm>
            <a:off x="539640" y="54936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i cu Aur la CM de Junior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but la competia seniorilor -  Locul 13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50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Ace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tia sunt doar o parte dintre arti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tii ghe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ţ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ii care 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î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i dedic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ă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 talentul 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i munca 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ţă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rii lor: </a:t>
            </a:r>
            <a:r>
              <a:rPr b="0" lang="en-US" sz="3200" spc="-1" strike="noStrike">
                <a:solidFill>
                  <a:srgbClr val="d96b77"/>
                </a:solidFill>
                <a:latin typeface="Century Gothic"/>
              </a:rPr>
              <a:t>Japonia</a:t>
            </a:r>
            <a:endParaRPr b="0" lang="en-US" sz="32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78" name="Picture 2" descr="http://1.bp.blogspot.com/_5lMqMcQkP4s/THT-SFp6PlI/AAAAAAAAABA/vPsVfAdHrz8/s1600/japonia.gif"/>
          <p:cNvPicPr/>
          <p:nvPr/>
        </p:nvPicPr>
        <p:blipFill>
          <a:blip r:embed="rId1"/>
          <a:stretch/>
        </p:blipFill>
        <p:spPr>
          <a:xfrm>
            <a:off x="2050920" y="2565360"/>
            <a:ext cx="5065920" cy="338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Box 4"/>
          <p:cNvSpPr/>
          <p:nvPr/>
        </p:nvSpPr>
        <p:spPr>
          <a:xfrm>
            <a:off x="1979640" y="623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mul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mesc pentru aten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e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71360" y="1122480"/>
            <a:ext cx="8777520" cy="160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http://1.bp.blogspot.com/_5lMqMcQkP4s/THT-SFp6PlI/AAAAAAAAABA/vPsVfAdHrz8/s1600/japonia.gif"/>
          <p:cNvPicPr/>
          <p:nvPr/>
        </p:nvPicPr>
        <p:blipFill>
          <a:blip r:embed="rId2"/>
          <a:stretch/>
        </p:blipFill>
        <p:spPr>
          <a:xfrm>
            <a:off x="900000" y="2852640"/>
            <a:ext cx="5064120" cy="338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9" name="TextBox 4"/>
          <p:cNvSpPr/>
          <p:nvPr/>
        </p:nvSpPr>
        <p:spPr>
          <a:xfrm>
            <a:off x="468360" y="836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Performant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 superlativ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Campionatul National al Japoniei 2011</a:t>
            </a:r>
            <a:endParaRPr b="0" lang="en-US" sz="32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21" name="Content Placeholder 3" descr="Nobunari+Oda+Japan+Figure+Skating+Championships+5W34oBFVP4Ol.jpg"/>
          <p:cNvPicPr/>
          <p:nvPr/>
        </p:nvPicPr>
        <p:blipFill>
          <a:blip r:embed="rId1"/>
          <a:stretch/>
        </p:blipFill>
        <p:spPr>
          <a:xfrm>
            <a:off x="1596960" y="2133720"/>
            <a:ext cx="5781600" cy="43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2" name="TextBox 6"/>
          <p:cNvSpPr/>
          <p:nvPr/>
        </p:nvSpPr>
        <p:spPr>
          <a:xfrm>
            <a:off x="468360" y="692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ar 3 dintre cei foarte bun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4" descr="Daisuke+Takahashi+ISU+World+Figure+Skating+R3HcLQfV56Ql.jpg"/>
          <p:cNvPicPr/>
          <p:nvPr/>
        </p:nvPicPr>
        <p:blipFill>
          <a:blip r:embed="rId1"/>
          <a:stretch/>
        </p:blipFill>
        <p:spPr>
          <a:xfrm>
            <a:off x="1258920" y="1700280"/>
            <a:ext cx="4183200" cy="46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4401334870_ee3d81d5fe.jpg"/>
          <p:cNvPicPr/>
          <p:nvPr/>
        </p:nvPicPr>
        <p:blipFill>
          <a:blip r:embed="rId2"/>
          <a:stretch/>
        </p:blipFill>
        <p:spPr>
          <a:xfrm>
            <a:off x="5508720" y="3125880"/>
            <a:ext cx="3166920" cy="3732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Daisuke Takahash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26" name="Picture 11" descr="Daisuke+Takahashi+Stars+Ice+2010+0nk4hskKFLdl.jpg"/>
          <p:cNvPicPr/>
          <p:nvPr/>
        </p:nvPicPr>
        <p:blipFill>
          <a:blip r:embed="rId3"/>
          <a:stretch/>
        </p:blipFill>
        <p:spPr>
          <a:xfrm>
            <a:off x="5435640" y="692280"/>
            <a:ext cx="3395520" cy="24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7" name="Picture 18" descr="Daisuke+Takahashi+ISU+World+Figure+Skating+AGdlWI9qH8gl.jpg"/>
          <p:cNvPicPr/>
          <p:nvPr/>
        </p:nvPicPr>
        <p:blipFill>
          <a:blip r:embed="rId4"/>
          <a:stretch/>
        </p:blipFill>
        <p:spPr>
          <a:xfrm>
            <a:off x="0" y="3871800"/>
            <a:ext cx="2490840" cy="2986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9"/>
          <p:cNvSpPr/>
          <p:nvPr/>
        </p:nvSpPr>
        <p:spPr>
          <a:xfrm>
            <a:off x="539640" y="692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 cu Bronz la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Jocurile Olimpice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ncouver, 201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Nobunari+Oda+2011+World+Figure+Skating+Championships+TCpH1P3e0Jfl.jpg"/>
          <p:cNvPicPr/>
          <p:nvPr/>
        </p:nvPicPr>
        <p:blipFill>
          <a:blip r:embed="rId1"/>
          <a:stretch/>
        </p:blipFill>
        <p:spPr>
          <a:xfrm>
            <a:off x="2908440" y="2054160"/>
            <a:ext cx="2151000" cy="30844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Nobunari Od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31" name="Picture 6" descr="7.jpg"/>
          <p:cNvPicPr/>
          <p:nvPr/>
        </p:nvPicPr>
        <p:blipFill>
          <a:blip r:embed="rId2"/>
          <a:stretch/>
        </p:blipFill>
        <p:spPr>
          <a:xfrm>
            <a:off x="4897440" y="2060640"/>
            <a:ext cx="3927600" cy="447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Picture 9" descr="nobunari-oda-2009-12-4-17-41-5.jpg"/>
          <p:cNvPicPr/>
          <p:nvPr/>
        </p:nvPicPr>
        <p:blipFill>
          <a:blip r:embed="rId3"/>
          <a:stretch/>
        </p:blipFill>
        <p:spPr>
          <a:xfrm>
            <a:off x="103320" y="3638520"/>
            <a:ext cx="3030480" cy="2530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39640" y="692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 cu Argint pentru programul scurt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Takahiko+Kozuka+ISU+Four+Continents+Figure+e3I2G-tj0pgl.jpg"/>
          <p:cNvPicPr/>
          <p:nvPr/>
        </p:nvPicPr>
        <p:blipFill>
          <a:blip r:embed="rId1"/>
          <a:stretch/>
        </p:blipFill>
        <p:spPr>
          <a:xfrm>
            <a:off x="4781520" y="692280"/>
            <a:ext cx="4111560" cy="6165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Takahiko+Kozuka+ISU+Grand+Prix+Figure+Skating+6l8HTkXoIKil.jpg"/>
          <p:cNvPicPr/>
          <p:nvPr/>
        </p:nvPicPr>
        <p:blipFill>
          <a:blip r:embed="rId2"/>
          <a:stretch/>
        </p:blipFill>
        <p:spPr>
          <a:xfrm>
            <a:off x="468360" y="1916280"/>
            <a:ext cx="3672000" cy="24494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Takahiko Kozuk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539640" y="692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8" name="Picture 7" descr="Takahiko+Kozuka+ISU+Grand+Prix+Figure+Skating+Bd87GEF7KP0l.jpg"/>
          <p:cNvPicPr/>
          <p:nvPr/>
        </p:nvPicPr>
        <p:blipFill>
          <a:blip r:embed="rId3"/>
          <a:stretch/>
        </p:blipFill>
        <p:spPr>
          <a:xfrm>
            <a:off x="468360" y="4221000"/>
            <a:ext cx="3527280" cy="235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Campionatul National al Japoniei 2011</a:t>
            </a:r>
            <a:endParaRPr b="0" lang="en-US" sz="32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68360" y="692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ar 3 dintre cele foarte bu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1" name="Picture 4" descr="Kanako+Murakami+Japan+Figure+Skating+Championships+R1yG8ZaF2K3l.jpg"/>
          <p:cNvPicPr/>
          <p:nvPr/>
        </p:nvPicPr>
        <p:blipFill>
          <a:blip r:embed="rId1"/>
          <a:stretch/>
        </p:blipFill>
        <p:spPr>
          <a:xfrm>
            <a:off x="1476360" y="2349360"/>
            <a:ext cx="6004080" cy="400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3" descr="Miki+Ando+Japan+Figure+Skating+Championships+v7MZeqZbVTel.jpg"/>
          <p:cNvPicPr/>
          <p:nvPr/>
        </p:nvPicPr>
        <p:blipFill>
          <a:blip r:embed="rId1"/>
          <a:stretch/>
        </p:blipFill>
        <p:spPr>
          <a:xfrm>
            <a:off x="3995640" y="3213000"/>
            <a:ext cx="3532320" cy="3302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Miki Ando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539640" y="692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ur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5" name="Picture 5" descr="2011+World+Figure+Skating+Championships+Day+DpNkOtkTm0tl.jpg"/>
          <p:cNvPicPr/>
          <p:nvPr/>
        </p:nvPicPr>
        <p:blipFill>
          <a:blip r:embed="rId2"/>
          <a:stretch/>
        </p:blipFill>
        <p:spPr>
          <a:xfrm>
            <a:off x="539640" y="2133720"/>
            <a:ext cx="314964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6" name="Picture 8" descr="Miki+Ando+Japan+Figure+Skating+Championships+6zhjt-uYo3Ol.jpg"/>
          <p:cNvPicPr/>
          <p:nvPr/>
        </p:nvPicPr>
        <p:blipFill>
          <a:blip r:embed="rId3"/>
          <a:stretch/>
        </p:blipFill>
        <p:spPr>
          <a:xfrm>
            <a:off x="5435640" y="692280"/>
            <a:ext cx="3241800" cy="26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Mao+Asada+Japan+Figure+Skating+Championships+Sf1ihUNHWd6l.jpg"/>
          <p:cNvPicPr/>
          <p:nvPr/>
        </p:nvPicPr>
        <p:blipFill>
          <a:blip r:embed="rId1"/>
          <a:stretch/>
        </p:blipFill>
        <p:spPr>
          <a:xfrm>
            <a:off x="5940360" y="2401920"/>
            <a:ext cx="3203640" cy="445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Mao+Asada+ISU+Four+Continents+Figure+Skating+_iR1m-0BjY6l.jpg"/>
          <p:cNvPicPr/>
          <p:nvPr/>
        </p:nvPicPr>
        <p:blipFill>
          <a:blip r:embed="rId2"/>
          <a:stretch/>
        </p:blipFill>
        <p:spPr>
          <a:xfrm>
            <a:off x="2771640" y="880920"/>
            <a:ext cx="3984840" cy="597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Mao Asad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39640" y="765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u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Torino, 201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1" name="Picture 5" descr="Mao+Asada+Japan+Figure+Skating+Championships+sb2z62BQe8cl.jpg"/>
          <p:cNvPicPr/>
          <p:nvPr/>
        </p:nvPicPr>
        <p:blipFill>
          <a:blip r:embed="rId3"/>
          <a:stretch/>
        </p:blipFill>
        <p:spPr>
          <a:xfrm>
            <a:off x="0" y="2209680"/>
            <a:ext cx="3270240" cy="4648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9:07:23Z</dcterms:created>
  <dc:creator>Corporate Edition</dc:creator>
  <dc:description/>
  <dc:language>en-US</dc:language>
  <cp:lastModifiedBy>Corporate Edition</cp:lastModifiedBy>
  <dcterms:modified xsi:type="dcterms:W3CDTF">2011-05-04T07:22:45Z</dcterms:modified>
  <cp:revision>78</cp:revision>
  <dc:subject/>
  <dc:title>Japonia – Ţara Soarelui Răsare</dc:title>
</cp:coreProperties>
</file>